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C745B-AF8F-435F-9C8F-4B97374F3CF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A925F-E3C6-4B6D-A9CD-81365134A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D2F04-5C60-4887-9CDA-42C111E4F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80BE9-4ABE-4011-92BC-A7A634D6FC7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0046-E662-4A80-B7C3-8FC17F8EC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F30E9-7779-4827-B74F-429C7E8F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6D5A0-69B1-4493-B805-2F3EC34A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2E7BC-6C1E-4ABE-8BC6-A66076965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8A6A-AB4F-420D-9C6E-713F82310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AB4FA-CA19-49B4-9187-A31A48CC7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533C5-AF45-485B-A223-DF5B1348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048BD-F3E1-4416-9538-520B7221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934D2-4C47-4984-9791-804E3FF301DF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349360"/>
            <a:ext cx="5616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十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脑损伤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无需特殊治疗，主要观察有无脑损伤及处理脑脊液漏、脑神经损伤等合并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患者诊断为“左额骨、颅骨前中窝粉碎性骨折、左额颞叶脑挫裂伤”，给予清创、止血、脱水等对症治疗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：①针对该患者的脑脊液外漏应采取哪些护理措施？②住院期间应重点监护哪些方面的病情变化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疼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有感染的危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颅骨骨折导致脑脊液外漏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出血、颅内压增高、颅内低压综合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外漏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促进颅内外漏通道尽早闭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脑损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损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rain injury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由于暴力作用致脑膜、脑组织、脑血管以及脑神经的损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短暂的意识障碍，一般不超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醒后大多不能回忆受伤当时乃至伤前一段时间的情况，临床称为逆行性遗忘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etrograde amnesi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震荡通常无需特殊治疗。一般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，可完全恢复。适当给予镇痛、镇静等对症处理，禁用吗啡及哌替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担心预后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震荡后遗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脑震荡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疏导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创造舒适、安静环境，消除陌生环境带来的不安。讲解疾病相关知识、治疗与预后，正确认识疾病，减轻患者焦虑与恐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相应的对症药物，卧床休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生命体征、意识状态、瞳孔及神经系统病征的观察，及时发现合并损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颅底骨折和脑损伤的临床表现及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归纳不同类型颅脑损伤患者意识障碍的发生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颅骨骨折和脑损伤的护理措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颅脑损伤患者并为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脑挫裂伤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erebral contusion and lacera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暴力作用于头部，造成脑组织的器质性损伤，包括脑挫伤和脑裂伤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灶症状和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、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与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膜刺激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是首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5364000" y="1484280"/>
            <a:ext cx="3311640" cy="37576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3"/>
          <p:cNvSpPr/>
          <p:nvPr/>
        </p:nvSpPr>
        <p:spPr>
          <a:xfrm>
            <a:off x="5651640" y="5589720"/>
            <a:ext cx="3024000" cy="52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1-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脑挫裂伤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扫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90840" indent="-2656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处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治脑水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487880" indent="-2124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促进脑功能恢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62720" indent="-2124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营养失调（低于机体需要量）  与脑损伤后高代谢、呕吐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理呼吸道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损伤后意识障碍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温调节无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脑干损伤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瞳孔变化观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经系统症状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正确体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抬高床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0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与补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躁动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热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化道出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脑挫裂伤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伤性癫痫患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训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颅内血肿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intracranial hematom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颅脑外伤导致颅内出血、血凝块在颅腔内积聚并达到一定的体积，形成局限性的占位病变，引起相应的症状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11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33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岁。因不慎从高处坠落头部外伤，伤后呼之不应，约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后清醒，诉头痛，并呕吐数次，伴肢体抽搐，送入医院急诊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查体：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T 36.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 7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P 126/80mmHg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神志清楚，查体合作，双侧瞳孔等大等圆，直径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，对光反射灵敏，双眼眶青紫肿胀明显，口鼻、左外耳道出血，头面部、眼睑可见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显示左额骨、颅骨前中窝粉碎性骨折、颅内积气、左额颞叶脑挫裂伤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既往无高血压、冠心病、糖尿病等病史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应着重从哪几个方面进行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外血肿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及脑疝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内血肿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协助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1368360" y="3294000"/>
            <a:ext cx="2665440" cy="29131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3" descr=""/>
          <p:cNvPicPr/>
          <p:nvPr/>
        </p:nvPicPr>
        <p:blipFill>
          <a:blip r:embed="rId2"/>
          <a:stretch/>
        </p:blipFill>
        <p:spPr>
          <a:xfrm>
            <a:off x="5292720" y="3289320"/>
            <a:ext cx="2664000" cy="291780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37"/>
          <p:cNvSpPr/>
          <p:nvPr/>
        </p:nvSpPr>
        <p:spPr>
          <a:xfrm>
            <a:off x="1627200" y="6275520"/>
            <a:ext cx="2146320" cy="38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3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外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5433840" y="6229440"/>
            <a:ext cx="2381400" cy="38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宋体"/>
                <a:ea typeface="宋体"/>
              </a:rPr>
              <a:t>图</a:t>
            </a:r>
            <a:r>
              <a:rPr b="0" lang="en-US" sz="1000" spc="-1" strike="noStrike">
                <a:solidFill>
                  <a:srgbClr val="000000"/>
                </a:solidFill>
                <a:latin typeface="宋体"/>
                <a:ea typeface="宋体"/>
              </a:rPr>
              <a:t>11-4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  <a:ea typeface="宋体"/>
              </a:rPr>
              <a:t>硬脑膜下血肿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  <a:ea typeface="宋体"/>
              </a:rPr>
              <a:t>CT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手术治疗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治疗为主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意识障碍  与颅内血肿、颅内压增高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、脑疝、出血及癫痫发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伤口及引流管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敷料清洁、干燥，严格无菌操作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血肿腔引流患者，可给予头低脚高位，以便充分引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行脑室外引流的患者，引流管装置应高出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距侧脑室前角水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引流管通畅，防扭曲、受压；及时观察并记录引流液的色、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颅内血肿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用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加强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二便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门诊随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4" marL="203652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骨骨折：暴力致颅骨结构改变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损伤：暴力致脑膜、脑组织、脑血管以及脑神经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骨骨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线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压痛、肿胀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盖凹陷性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局部可扪及下陷区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前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鼻出血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球结膜下瘀血斑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中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脊液外漏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⑤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颅后窝骨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征、枕下部肿胀及皮下瘀血斑、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(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Ⅻ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神经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)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损伤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损伤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震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逆行性遗忘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脑挫裂伤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、局灶症状和体征、头痛、恶心、呕吐、脑膜刺激征等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外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及中间清醒期、颅内压增高症状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硬脑膜下血肿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昏迷，中间清醒期不明显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以防治脑水肿、营养脑细胞等非手术治疗为主，一旦确诊有颅内血肿则立即手术治疗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生命体征、意识状态、瞳孔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分、神经系统病征及肢体运动改变；加强脑脊液外漏的护理；及时发现颅内高压及脑疝迹象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骑摩托车摔倒致头部外伤，当场昏迷，被发现后急送当地医院救治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昏迷，右侧瞳孔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射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左侧瞳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对光反应（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GCS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分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0/9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8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鼻腔及耳道有淡红色液体流出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提示“前额部硬脑膜下血肿、颅中窝粉碎性骨折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的主要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8920" y="2276640"/>
            <a:ext cx="62658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头部受伤，昏迷不醒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意识障碍  与颅内血肿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双侧瞳孔不等大、生命体征不平衡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鼻腔及耳到有淡血性液体流出，存在“有感染的危险  与脑脊液外漏有关”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主要护理措施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密切观察生命体征、意识状态、瞳孔变化、神经系统局灶性症状、有无呕吐、烦躁不安等，警惕脑疝发生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昏迷护理，如保持正确体位、保持呼吸道通畅、营养与补液等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③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做好脑脊液外漏的护理，预防颅内感染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④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积极做好术前准备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损伤患者出现中间清醒期提示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内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汽车撞伤头部发生颅前窝骨折，其护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床头抬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5°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°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生理盐水冲洗鼻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忌堵塞鼻腔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禁止腰椎穿刺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枕部垫无菌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容易引起颅内感染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震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脑挫裂伤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硬脑膜外血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颅底骨折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帽状腱膜下血肿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脑震荡的处理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休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对症治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吗啡镇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观察生命体征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做好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前窝骨折典型的临床特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熊猫眼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逆行性遗忘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剧烈呕吐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昏迷后有中间清醒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2. B   3. D   4. C   5.A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部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盖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vault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底骨折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fracture of skull bas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形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线形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凹陷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骨折是否与外界相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开放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闭合性骨折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性骨折：发生率最高，局部有压痛、肿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凹陷性骨折：局部可扪及局限性下陷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底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前窝骨折：骨折累及眶顶和筛骨，可有鼻出血、眶周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熊猫眼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及球结膜下瘀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中窝骨折：骨折累及蝶骨，也可有鼻出血或合并脑脊液鼻漏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后窝骨折：骨折累及颞骨岩部后外侧时，一般在伤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出现乳突部皮下瘀斑（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Battl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征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片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糖试纸测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颅骨骨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盖骨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单纯线性骨折：无需特殊处理，仅需卧床休息，对症治疗，如止痛、镇静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凹陷性骨折：若凹陷性骨折位于脑重要功能区表面，有脑受压症状或大面积骨折片下陷，直径大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深度超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时，应手术整复或摘除碎骨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9:38Z</dcterms:modified>
  <cp:revision>87</cp:revision>
  <dc:subject/>
  <dc:title>内科护理学</dc:title>
</cp:coreProperties>
</file>